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34.png" ContentType="image/png"/>
  <Override PartName="/ppt/media/image27.png" ContentType="image/png"/>
  <Override PartName="/ppt/media/image32.png" ContentType="image/png"/>
  <Override PartName="/ppt/media/image25.png" ContentType="image/png"/>
  <Override PartName="/ppt/media/image49.jpeg" ContentType="image/jpeg"/>
  <Override PartName="/ppt/media/image4.png" ContentType="image/png"/>
  <Override PartName="/ppt/media/image16.png" ContentType="image/png"/>
  <Override PartName="/ppt/media/image20.png" ContentType="image/png"/>
  <Override PartName="/ppt/media/image28.jpeg" ContentType="image/jpeg"/>
  <Override PartName="/ppt/media/image51.jpeg" ContentType="image/jpeg"/>
  <Override PartName="/ppt/media/image60.jpeg" ContentType="image/jpeg"/>
  <Override PartName="/ppt/media/image30.png" ContentType="image/pn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72.png" ContentType="image/png"/>
  <Override PartName="/ppt/media/image70.jpeg" ContentType="image/jpeg"/>
  <Override PartName="/ppt/media/image35.png" ContentType="image/png"/>
  <Override PartName="/ppt/media/image31.png" ContentType="image/png"/>
  <Override PartName="/ppt/media/image68.jpeg" ContentType="image/jpeg"/>
  <Override PartName="/ppt/media/image65.jpeg" ContentType="image/jpeg"/>
  <Override PartName="/ppt/media/image8.png" ContentType="image/png"/>
  <Override PartName="/ppt/media/image38.png" ContentType="image/png"/>
  <Override PartName="/ppt/media/image69.jpeg" ContentType="image/jpeg"/>
  <Override PartName="/ppt/media/image41.png" ContentType="image/png"/>
  <Override PartName="/ppt/media/image24.png" ContentType="image/png"/>
  <Override PartName="/ppt/media/image22.png" ContentType="image/png"/>
  <Override PartName="/ppt/media/image2.png" ContentType="image/png"/>
  <Override PartName="/ppt/media/image14.png" ContentType="image/png"/>
  <Override PartName="/ppt/media/image67.jpeg" ContentType="image/jpeg"/>
  <Override PartName="/ppt/media/image21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64.jpeg" ContentType="image/jpe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0E2-5CAF-4B87-89BB-DD75A52104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28E9-6979-40A9-B7F8-3AB0ED311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898-F937-4756-8DB3-AA4948CF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778-E3C3-4B55-9500-EFC75C95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6F0-03A3-4725-B736-C2DAB3D8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6ED-EA76-40C9-9A1B-D934BD89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3948-5798-45E8-8FB2-7CFE4E68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F358-ABBF-43C5-BC89-A5FE3C1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75D4-B4EA-48F2-ABFE-27A61D5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D51-2599-402D-AF29-DDE636DA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213F-8415-44F0-B275-DDBE069F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8AE-645A-4C98-86A9-9B32DEF1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C951-F6F8-42BC-9B24-7CCD441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4AE-2299-4D13-95E3-FB1073F4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1314-E752-4D72-8711-3DFB672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98B-7A14-4EFC-ABB7-BC075F8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E21-FCF8-4E15-8C04-F244D9F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4B21-B3F3-4941-9C11-82EE57D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6888-DCC0-4BE6-8603-F0DB19D0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88202-F862-4495-8CC6-6AFFB8D5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0B174-0772-417B-84E6-62C2417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B1B90-8C25-42DE-B104-9614640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0F859-BCA4-4F6B-A4F3-BE889DC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C00D9-644A-4253-BE4D-46B101E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D99-53A1-4DB5-8442-354C044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2DAC2-A5A5-4252-8EED-8601BE7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6C379-68A5-48F2-9583-CCD209A2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20350-C857-49E2-AB90-7A06BFF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5D30B-EE27-4917-95E3-5C029F7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78469-71B3-4063-AFC7-84E54AAC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1D630-DDE2-46C2-A4E6-D0110022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074FA-1C82-4A4F-B480-FF886B60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9362-1C2F-4CE8-B5CD-FDDFA863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C30F-FCE3-4A48-A3A7-5654F96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70BB-A838-416D-93AF-FE4EBCA4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DAC-C4D1-4F34-84A0-E504D715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7345-16F5-450A-AE71-3877D41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1032-7427-4A6C-9987-1F5BB905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8F40-FB64-458A-8D75-AEAA1BE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E9C9-7D77-4C0C-99A5-C9784E6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6A1F-D1CC-43EA-9D88-B55D0CC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D8BA-A446-4113-8ADE-021A438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A43F-53B2-46C2-A4DF-DE6B63BD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9B69-CFCA-41B5-AD0E-8E293DB0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58E5-63B9-43CE-94AF-F7D8A797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15D52-D092-4254-B9C7-36BA277D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36F-9541-4B55-9A79-42DD207B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3B6EB-7B3F-4C31-9523-4991403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2426E-1FCD-4298-846E-B223C3B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8DA0A-FCD5-4316-8954-B3F45FB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B6093-DA05-49A3-9A53-356DEF4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16369-318F-42F2-AF2D-9184184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EC7B3-2766-405C-9BA7-FD857F7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21B62-C548-4C41-9A1A-6F9E839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B6747-6358-464D-9BF4-31BD519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FAC1D-7B23-4D9C-942A-29B5871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42E80-A505-4403-A805-976A96A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66-8282-4C32-81BD-E89CD82C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C3EA9-ECFA-4D25-A53B-0D26656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C1C5B-4E73-4315-BFF1-C778AC83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C81AA-D413-4A54-90BC-B54DF4D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08425-454C-46C0-9BEB-CBAB196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CC9DB-4724-4B07-8B99-E1C7B97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EAB41-0155-449A-AD9D-0590C50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FA395-0FFB-49E1-AD71-0E293B5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30C99-EEE0-4B34-A28C-7EA1549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D5482-8506-4F03-B118-259495F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4C44E-77FB-4DC0-A975-110789D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03E-C100-4B50-A9C4-407C852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B7595-1032-477A-AEAD-D0E250E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A4817-6AED-4B42-B88F-7D3FD8F1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6E0ED-EDCA-4904-A69B-8E1E0621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4795B-AC6B-47AF-B40A-85810991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0B89A-219B-4245-B5AC-2C99A77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8B5FD-B4A8-4AC5-8BD6-40A4660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EA498-5BA4-4E79-BA28-6728880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C7C86-289A-42FA-A6EB-0055D522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2B95C-F88C-4477-8D45-669603B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76D45-4038-4E11-9D69-0E90B88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CF7-F472-4B84-B145-5254F2A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5C283-9C5A-429E-A5D7-519D25D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37E05-BF3B-40E9-AE6F-9BCAC6B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14E7B-24E6-4A05-933C-B192CB7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CAD01-734F-4F12-A8A5-E576781B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2389B-AC03-4904-94E1-92C862E6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A44-FAF6-4892-AC3D-B71832A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1E0-EF22-4364-AE3B-F4628612FD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7265-18D5-415E-91A0-FC32F54F7FF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055-CB19-49A7-8560-D57B0C5F26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F62-9A2F-4782-888D-637C9BB8B8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324-58E5-46DB-A71D-2095617FFB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5CF-D8CB-4E6C-91A2-E641D91275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7F2-4AC0-46CB-BBDD-5C94C927D00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8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272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ЕМА УРОКА</a:t>
            </a:r>
            <a:br>
              <a:rPr sz="2800"/>
            </a:br>
            <a:r>
              <a:rPr b="1" lang="en-US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ДЕЛЕНИЕ   ОБЫКНОВЕННЫХ ДРОБЕЙ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 rot="1005000">
            <a:off x="4140000" y="4508280"/>
            <a:ext cx="547560" cy="939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2"/>
          <a:stretch/>
        </p:blipFill>
        <p:spPr>
          <a:xfrm rot="926400">
            <a:off x="7524720" y="5373360"/>
            <a:ext cx="495360" cy="6429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730440" cy="1066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3" descr=""/>
          <p:cNvPicPr/>
          <p:nvPr/>
        </p:nvPicPr>
        <p:blipFill>
          <a:blip r:embed="rId4"/>
          <a:stretch/>
        </p:blipFill>
        <p:spPr>
          <a:xfrm rot="20315400">
            <a:off x="2700360" y="2781360"/>
            <a:ext cx="693720" cy="8571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8" descr=""/>
          <p:cNvPicPr/>
          <p:nvPr/>
        </p:nvPicPr>
        <p:blipFill>
          <a:blip r:embed="rId5"/>
          <a:stretch/>
        </p:blipFill>
        <p:spPr>
          <a:xfrm>
            <a:off x="5219640" y="5229360"/>
            <a:ext cx="371520" cy="804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0" descr=""/>
          <p:cNvPicPr/>
          <p:nvPr/>
        </p:nvPicPr>
        <p:blipFill>
          <a:blip r:embed="rId6"/>
          <a:stretch/>
        </p:blipFill>
        <p:spPr>
          <a:xfrm rot="20968200">
            <a:off x="2584440" y="5246640"/>
            <a:ext cx="442800" cy="9604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6" descr=""/>
          <p:cNvPicPr/>
          <p:nvPr/>
        </p:nvPicPr>
        <p:blipFill>
          <a:blip r:embed="rId7"/>
          <a:stretch/>
        </p:blipFill>
        <p:spPr>
          <a:xfrm rot="1735800">
            <a:off x="7020000" y="3357720"/>
            <a:ext cx="1143000" cy="7300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8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9" descr=""/>
          <p:cNvPicPr/>
          <p:nvPr/>
        </p:nvPicPr>
        <p:blipFill>
          <a:blip r:embed="rId8"/>
          <a:stretch/>
        </p:blipFill>
        <p:spPr>
          <a:xfrm rot="20977800">
            <a:off x="4716360" y="2997360"/>
            <a:ext cx="976320" cy="8776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1"/>
          <p:cNvSpPr/>
          <p:nvPr/>
        </p:nvSpPr>
        <p:spPr>
          <a:xfrm>
            <a:off x="0" y="72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1"/>
          <p:cNvSpPr/>
          <p:nvPr/>
        </p:nvSpPr>
        <p:spPr>
          <a:xfrm>
            <a:off x="7358040" y="6211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67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ОДИН ИЗ ЗАЛОВ </a:t>
            </a:r>
            <a:br>
              <a:rPr sz="2800"/>
            </a:b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ТРЕТЬЯКОВСКОЙ ГАЛЕРЕ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7" name="Содержимое 7" descr="30408-111.jp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8296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75c01"/>
                </a:solidFill>
                <a:latin typeface="Century Schoolbook"/>
              </a:rPr>
              <a:t>ТРЕТЬЯКОВ</a:t>
            </a:r>
            <a:br>
              <a:rPr sz="2700"/>
            </a:br>
            <a:r>
              <a:rPr b="0" lang="en-US" sz="2700" spc="-1" strike="noStrike">
                <a:solidFill>
                  <a:srgbClr val="e75c01"/>
                </a:solidFill>
                <a:latin typeface="Century Schoolbook"/>
              </a:rPr>
              <a:t> ПАВЕЛ МИХАЙЛОВИЧ</a:t>
            </a:r>
            <a:br>
              <a:rPr sz="2700"/>
            </a:br>
            <a:r>
              <a:rPr b="0" lang="en-US" sz="2700" spc="-1" strike="noStrike">
                <a:solidFill>
                  <a:srgbClr val="e75c01"/>
                </a:solidFill>
                <a:latin typeface="Century Schoolbook"/>
              </a:rPr>
              <a:t>(1832-1898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9" name="Содержимое 3" descr="павел.jpg"/>
          <p:cNvPicPr/>
          <p:nvPr/>
        </p:nvPicPr>
        <p:blipFill>
          <a:blip r:embed="rId1"/>
          <a:stretch/>
        </p:blipFill>
        <p:spPr>
          <a:xfrm>
            <a:off x="262080" y="1628640"/>
            <a:ext cx="3949560" cy="4896000"/>
          </a:xfrm>
          <a:prstGeom prst="rect">
            <a:avLst/>
          </a:prstGeom>
          <a:ln w="0">
            <a:noFill/>
          </a:ln>
        </p:spPr>
      </p:pic>
      <p:sp>
        <p:nvSpPr>
          <p:cNvPr id="500" name="Заголовок 1"/>
          <p:cNvSpPr/>
          <p:nvPr/>
        </p:nvSpPr>
        <p:spPr>
          <a:xfrm>
            <a:off x="4429080" y="1643040"/>
            <a:ext cx="4143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4500720" y="1571760"/>
            <a:ext cx="464328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ков Павел Михайлович - основатель Третьяковской галереи. Сын купца 2-й гильдии. Получил хорошее домашнее образование и работал c отцом, проявив огромную работоспособность и сметку. Увлеченный искусством, Третьяков начал собирать художественную коллекцию национальной рус. живописи, пользуясь советами В. В. Стасова, И.Н. Крамского и др. В 1874 Третьяков построил для своего собрания великолепное здание, открыв его в 1888 для бесплатного посещения. В 1892 передал коллекцию и здание в дар Москве. До конца жизни за свой счет продолжал пополнять галерею и завещал проценты со своего капитала на будущее ее пополнение, положив начало музею мирового значения. В 1893 был избран действительным членом Академии худож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ВАСНЕЦОВ </a:t>
            </a:r>
            <a:br>
              <a:rPr sz="2800"/>
            </a:b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ВИКТОР МИХАЙЛОВИЧ</a:t>
            </a:r>
            <a:br>
              <a:rPr sz="2800"/>
            </a:b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(1848-1926)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3" name="Содержимое 5" descr="CA2TODMN.jpg"/>
          <p:cNvPicPr/>
          <p:nvPr/>
        </p:nvPicPr>
        <p:blipFill>
          <a:blip r:embed="rId1"/>
          <a:stretch/>
        </p:blipFill>
        <p:spPr>
          <a:xfrm>
            <a:off x="214200" y="1628640"/>
            <a:ext cx="3475080" cy="4608720"/>
          </a:xfrm>
          <a:prstGeom prst="rect">
            <a:avLst/>
          </a:prstGeom>
          <a:ln w="0">
            <a:noFill/>
          </a:ln>
        </p:spPr>
      </p:pic>
      <p:sp>
        <p:nvSpPr>
          <p:cNvPr id="504" name="Заголовок 1"/>
          <p:cNvSpPr/>
          <p:nvPr/>
        </p:nvSpPr>
        <p:spPr>
          <a:xfrm>
            <a:off x="3929040" y="1357200"/>
            <a:ext cx="4829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4"/>
          <p:cNvSpPr/>
          <p:nvPr/>
        </p:nvSpPr>
        <p:spPr>
          <a:xfrm>
            <a:off x="3857760" y="1428840"/>
            <a:ext cx="49291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живописец, один из основоположников русского модерна в его национально-романтическом варианте, автор картин на исторические и сказочные сюжеты. Брат художника Аполлинария Васнецова. Был членом «Товарищества передвижников». Кисти мастера принадлежит множество известных картин, назову лишь некоторые - "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ыри", "Алёнушка«.В.Васнецов принимал участие в оформлении театральных постановок. В последние годы расцвел архитектурный талант художника По его эскизам были возведены церковь Спаса Нерукотворного и Избушка на курьих ножках, а в Москве – памятный крест на месте убийства великого князя Сергея Александровича в Кремл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Содержимое 3" descr="_1174114096.jpg"/>
          <p:cNvPicPr/>
          <p:nvPr/>
        </p:nvPicPr>
        <p:blipFill>
          <a:blip r:embed="rId1"/>
          <a:stretch/>
        </p:blipFill>
        <p:spPr>
          <a:xfrm>
            <a:off x="282600" y="189000"/>
            <a:ext cx="4255920" cy="6048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7" descr="post-793-1142888167.jpg"/>
          <p:cNvPicPr/>
          <p:nvPr/>
        </p:nvPicPr>
        <p:blipFill>
          <a:blip r:embed="rId2"/>
          <a:stretch/>
        </p:blipFill>
        <p:spPr>
          <a:xfrm>
            <a:off x="4716360" y="189000"/>
            <a:ext cx="4176720" cy="6048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6453000"/>
            <a:ext cx="3887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ИВАН ЦАРЕВИЧ НА СЕРОМ ВОЛКЕ»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Заголовок 5"/>
          <p:cNvSpPr/>
          <p:nvPr/>
        </p:nvSpPr>
        <p:spPr>
          <a:xfrm>
            <a:off x="4643280" y="6000840"/>
            <a:ext cx="42148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АЛЕНУШК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14240" y="6071760"/>
            <a:ext cx="7467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ТРИ БОГАТЫРЯ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1" name="Содержимое 3" descr="ist07.jpg"/>
          <p:cNvPicPr/>
          <p:nvPr/>
        </p:nvPicPr>
        <p:blipFill>
          <a:blip r:embed="rId1"/>
          <a:stretch/>
        </p:blipFill>
        <p:spPr>
          <a:xfrm>
            <a:off x="324000" y="549360"/>
            <a:ext cx="83534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2040" y="475920"/>
            <a:ext cx="3681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СНЕГУРОЧКА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3" name="Содержимое 3" descr="vasnetsov76.jpg"/>
          <p:cNvPicPr/>
          <p:nvPr/>
        </p:nvPicPr>
        <p:blipFill>
          <a:blip r:embed="rId1"/>
          <a:stretch/>
        </p:blipFill>
        <p:spPr>
          <a:xfrm>
            <a:off x="5076720" y="1197000"/>
            <a:ext cx="3672000" cy="540072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5" descr="vasnetsov3.jpg"/>
          <p:cNvPicPr/>
          <p:nvPr/>
        </p:nvPicPr>
        <p:blipFill>
          <a:blip r:embed="rId2"/>
          <a:stretch/>
        </p:blipFill>
        <p:spPr>
          <a:xfrm>
            <a:off x="285840" y="285840"/>
            <a:ext cx="4502160" cy="4511520"/>
          </a:xfrm>
          <a:prstGeom prst="rect">
            <a:avLst/>
          </a:prstGeom>
          <a:ln w="0">
            <a:noFill/>
          </a:ln>
        </p:spPr>
      </p:pic>
      <p:sp>
        <p:nvSpPr>
          <p:cNvPr id="515" name="Заголовок 1"/>
          <p:cNvSpPr/>
          <p:nvPr/>
        </p:nvSpPr>
        <p:spPr>
          <a:xfrm>
            <a:off x="357120" y="5157720"/>
            <a:ext cx="4070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ТРИ ЦАРЕВНЫ ПОДЗЕМНОГО ЦАР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СУРИКОВ  </a:t>
            </a:r>
            <a:br>
              <a:rPr sz="3000"/>
            </a:br>
            <a:r>
              <a:rPr b="0" lang="en-US" sz="3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ВАСИЛИЙ  ИВАНОВИЧ </a:t>
            </a:r>
            <a:br>
              <a:rPr sz="3000"/>
            </a:br>
            <a:r>
              <a:rPr b="0" lang="en-US" sz="3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 (1848–1916</a:t>
            </a:r>
            <a:r>
              <a:rPr b="1" lang="en-US" sz="30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17" name="Содержимое 5" descr="суриков.jpg"/>
          <p:cNvPicPr/>
          <p:nvPr/>
        </p:nvPicPr>
        <p:blipFill>
          <a:blip r:embed="rId1"/>
          <a:stretch/>
        </p:blipFill>
        <p:spPr>
          <a:xfrm>
            <a:off x="468360" y="1844640"/>
            <a:ext cx="3390840" cy="4521240"/>
          </a:xfrm>
          <a:prstGeom prst="rect">
            <a:avLst/>
          </a:prstGeom>
          <a:ln w="0">
            <a:noFill/>
          </a:ln>
        </p:spPr>
      </p:pic>
      <p:sp>
        <p:nvSpPr>
          <p:cNvPr id="518" name="Заголовок 1"/>
          <p:cNvSpPr/>
          <p:nvPr/>
        </p:nvSpPr>
        <p:spPr>
          <a:xfrm>
            <a:off x="4429080" y="1714680"/>
            <a:ext cx="4471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4214880" y="15717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живописец и жанрист, родился в 1848 г., с 1858 по 1861 г. обучался в красноярском уездном училище, а потом служил канцеляристом в одном из казенных учреждений, любительски упражняясь в рисовании и живописи. В 1870 г. поступил в ученики Императорской Академии Художеств. Посещая ее классы до 1873 г., получил за исполненные в них работы все установленные серебряные медали. В 1881 г. вступил в члены товарищества передвижных художественных выставок и с того времени постоянно является на них со своими картинами. Главные из этих картин: "Утро стрелецкой казни при Петре Великом", "Меншиков в Березове", "Боярыня Морозо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, 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ие снежного городка, из сибирского быта", "Ермак« и д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71320" y="5660640"/>
            <a:ext cx="7467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БОЯРЫНЯ МОРОЗОВА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1" name="Содержимое 3" descr="1205_s.jpg"/>
          <p:cNvPicPr/>
          <p:nvPr/>
        </p:nvPicPr>
        <p:blipFill>
          <a:blip r:embed="rId1"/>
          <a:stretch/>
        </p:blipFill>
        <p:spPr>
          <a:xfrm>
            <a:off x="285840" y="571680"/>
            <a:ext cx="8415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000" y="4436640"/>
            <a:ext cx="2958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ПОРТРЕТ ДЕВОЧКИ В КРАСНОМ ПЛАТЬЕ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3" name="Содержимое 3" descr="devochka.jpg"/>
          <p:cNvPicPr/>
          <p:nvPr/>
        </p:nvPicPr>
        <p:blipFill>
          <a:blip r:embed="rId1"/>
          <a:stretch/>
        </p:blipFill>
        <p:spPr>
          <a:xfrm>
            <a:off x="395280" y="333360"/>
            <a:ext cx="3168720" cy="388764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5" descr="florencia.jpg"/>
          <p:cNvPicPr/>
          <p:nvPr/>
        </p:nvPicPr>
        <p:blipFill>
          <a:blip r:embed="rId2"/>
          <a:stretch/>
        </p:blipFill>
        <p:spPr>
          <a:xfrm>
            <a:off x="4067280" y="2276640"/>
            <a:ext cx="4465440" cy="3671640"/>
          </a:xfrm>
          <a:prstGeom prst="rect">
            <a:avLst/>
          </a:prstGeom>
          <a:ln w="0">
            <a:noFill/>
          </a:ln>
        </p:spPr>
      </p:pic>
      <p:sp>
        <p:nvSpPr>
          <p:cNvPr id="525" name="Заголовок 1"/>
          <p:cNvSpPr/>
          <p:nvPr/>
        </p:nvSpPr>
        <p:spPr>
          <a:xfrm>
            <a:off x="4572000" y="1268280"/>
            <a:ext cx="3638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ФЛОРЕНЦИЯ .ПРОГУЛКА</a:t>
            </a:r>
            <a:r>
              <a:rPr b="0" lang="en-US" sz="2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9680" y="5643720"/>
            <a:ext cx="746748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ВЗЯТИЕ СНЕЖНОГО ГОРОДКА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7" name="Рисунок 4" descr="1111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РОВЕРЬ СЕБЯ И СВОЕГО ТОВАРИЩА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71320" y="1285920"/>
            <a:ext cx="7900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35(г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714680" y="1738440"/>
            <a:ext cx="6000480" cy="8524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000080" y="2928960"/>
            <a:ext cx="5591160" cy="7142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"/>
          <p:cNvPicPr/>
          <p:nvPr/>
        </p:nvPicPr>
        <p:blipFill>
          <a:blip r:embed="rId3"/>
          <a:stretch/>
        </p:blipFill>
        <p:spPr>
          <a:xfrm>
            <a:off x="1000080" y="3929040"/>
            <a:ext cx="5711760" cy="642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4313160" cy="7142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2" descr=""/>
          <p:cNvPicPr/>
          <p:nvPr/>
        </p:nvPicPr>
        <p:blipFill>
          <a:blip r:embed="rId5"/>
          <a:stretch/>
        </p:blipFill>
        <p:spPr>
          <a:xfrm>
            <a:off x="1000080" y="5929200"/>
            <a:ext cx="57834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ШИШКИН ИВАН ИВАНОВИЧ</a:t>
            </a:r>
            <a:br>
              <a:rPr sz="3000"/>
            </a:b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(1832-1898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9" name="Содержимое 3" descr="шишкин.jpg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3"/>
          <p:cNvSpPr/>
          <p:nvPr/>
        </p:nvSpPr>
        <p:spPr>
          <a:xfrm>
            <a:off x="4714920" y="1357200"/>
            <a:ext cx="4000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живописец и график, передвижник. В эпических образах раскрыл красоту, мощь и богатство русской природы. Мастер литографии и офорта. И. И. Шишкин - не только один из крупнейших, но и едва ли не самый популярный среди русских пейзажистов. В этом с ним может соперничать лишь И. К. Айвазовский. Шишкин знал русскую природу ученым образом (И. Н. Крамской) и любил ее со всей силой своей могучей нат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сама фигура Шишкина олицетворяла для современников русскую приро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ои успехи Шишкин получил все возможные наг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5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5520" y="6237360"/>
            <a:ext cx="7467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УТРО В СОСНОВОМ ЛЕСУ»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2" name="Содержимое 3" descr="shishkin51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6" descr="шишкин2.jpg"/>
          <p:cNvPicPr/>
          <p:nvPr/>
        </p:nvPicPr>
        <p:blipFill>
          <a:blip r:embed="rId1"/>
          <a:stretch/>
        </p:blipFill>
        <p:spPr>
          <a:xfrm>
            <a:off x="3276720" y="2492280"/>
            <a:ext cx="5616360" cy="4175280"/>
          </a:xfrm>
          <a:prstGeom prst="rect">
            <a:avLst/>
          </a:prstGeom>
          <a:ln w="0">
            <a:noFill/>
          </a:ln>
        </p:spPr>
      </p:pic>
      <p:pic>
        <p:nvPicPr>
          <p:cNvPr id="534" name="Содержимое 3" descr="шишкин.jpg"/>
          <p:cNvPicPr/>
          <p:nvPr/>
        </p:nvPicPr>
        <p:blipFill>
          <a:blip r:embed="rId2"/>
          <a:stretch/>
        </p:blipFill>
        <p:spPr>
          <a:xfrm>
            <a:off x="179280" y="189000"/>
            <a:ext cx="3924360" cy="49086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4"/>
          <p:cNvSpPr/>
          <p:nvPr/>
        </p:nvSpPr>
        <p:spPr>
          <a:xfrm>
            <a:off x="4143240" y="170028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Среди долины ровныя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5"/>
          <p:cNvSpPr/>
          <p:nvPr/>
        </p:nvSpPr>
        <p:spPr>
          <a:xfrm>
            <a:off x="214200" y="53737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«Лесная глуш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4674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ТРЕТЬЯКОВСКАЯ ГАЛЕРЕ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8" name="Содержимое 3" descr="msk-sgh-the-state-tretyakov-gallery-1.jpg"/>
          <p:cNvPicPr/>
          <p:nvPr/>
        </p:nvPicPr>
        <p:blipFill>
          <a:blip r:embed="rId1"/>
          <a:stretch/>
        </p:blipFill>
        <p:spPr>
          <a:xfrm>
            <a:off x="179280" y="1341360"/>
            <a:ext cx="8640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58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2714400" cy="4103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143080" cy="3238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143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8101080" y="5300640"/>
            <a:ext cx="761760" cy="11494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047600" cy="1584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1381320" cy="20862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4140360" y="2781360"/>
            <a:ext cx="1761840" cy="2663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2411280" y="1413000"/>
            <a:ext cx="2143080" cy="3238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2714760" cy="4103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1944 -0.13102 E">
                                      <p:cBhvr>
                                        <p:cTn id="608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55556E-006 L -0.40156 -0.29399 E">
                                      <p:cBhvr>
                                        <p:cTn id="61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4000"/>
                            </p:stCondLst>
                            <p:childTnLst>
                              <p:par>
                                <p:cTn id="6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75 0.07893 L -0.54809 -0.40394 E">
                                      <p:cBhvr>
                                        <p:cTn id="614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-0.06296 L -0.67153 -0.50416 E">
                                      <p:cBhvr>
                                        <p:cTn id="617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77951 -0.57755 E">
                                      <p:cBhvr>
                                        <p:cTn id="620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2000"/>
                            </p:stCondLst>
                            <p:childTnLst>
                              <p:par>
                                <p:cTn id="6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3000"/>
                            </p:stCondLst>
                            <p:childTnLst>
                              <p:par>
                                <p:cTn id="6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4000"/>
                            </p:stCondLst>
                            <p:childTnLst>
                              <p:par>
                                <p:cTn id="6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0"/>
                            </p:stCondLst>
                            <p:childTnLst>
                              <p:par>
                                <p:cTn id="6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2000"/>
                            </p:stCondLst>
                            <p:childTnLst>
                              <p:par>
                                <p:cTn id="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40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6000"/>
                            </p:stCondLst>
                            <p:childTnLst>
                              <p:par>
                                <p:cTn id="6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8000"/>
                            </p:stCondLst>
                            <p:childTnLst>
                              <p:par>
                                <p:cTn id="6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0000"/>
                            </p:stCondLst>
                            <p:childTnLst>
                              <p:par>
                                <p:cTn id="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20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64000"/>
                            </p:stCondLst>
                            <p:childTnLst>
                              <p:par>
                                <p:cTn id="6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600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8000"/>
                            </p:stCondLst>
                            <p:childTnLst>
                              <p:par>
                                <p:cTn id="6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0000"/>
                            </p:stCondLst>
                            <p:childTnLst>
                              <p:par>
                                <p:cTn id="69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2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2000"/>
                            </p:stCondLst>
                            <p:childTnLst>
                              <p:par>
                                <p:cTn id="7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4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4000"/>
                            </p:stCondLst>
                            <p:childTnLst>
                              <p:par>
                                <p:cTn id="71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3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6000"/>
                            </p:stCondLst>
                            <p:childTnLst>
                              <p:par>
                                <p:cTn id="72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8000"/>
                            </p:stCondLst>
                            <p:childTnLst>
                              <p:par>
                                <p:cTn id="73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0"/>
                            </p:stCondLst>
                            <p:childTnLst>
                              <p:par>
                                <p:cTn id="739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89 -0.00509 L 0.54062 -0.00509 L 0.54062 0.37014 L 0.13889 0.37014 L 0.13889 -0.00509 Z">
                                      <p:cBhvr>
                                        <p:cTn id="740" dur="3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9000"/>
                            </p:stCondLst>
                            <p:childTnLst>
                              <p:par>
                                <p:cTn id="74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3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186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ТЕСТ</a:t>
            </a:r>
            <a:br>
              <a:rPr sz="3600"/>
            </a:br>
            <a:r>
              <a:rPr b="0" lang="en-US" sz="3600" spc="-1" strike="noStrike">
                <a:solidFill>
                  <a:srgbClr val="eb6e5a"/>
                </a:solidFill>
                <a:latin typeface="Times New Roman"/>
                <a:ea typeface="Times New Roman"/>
              </a:rPr>
              <a:t>«</a:t>
            </a: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ДЕЛЕНИЕ ОБЫКНОВЕННЫХ ДРОБЕЙ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1" name="Picture 13" descr=""/>
          <p:cNvPicPr/>
          <p:nvPr/>
        </p:nvPicPr>
        <p:blipFill>
          <a:blip r:embed="rId1"/>
          <a:stretch/>
        </p:blipFill>
        <p:spPr>
          <a:xfrm rot="20315400">
            <a:off x="917640" y="4454640"/>
            <a:ext cx="693720" cy="857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9" descr=""/>
          <p:cNvPicPr/>
          <p:nvPr/>
        </p:nvPicPr>
        <p:blipFill>
          <a:blip r:embed="rId2"/>
          <a:stretch/>
        </p:blipFill>
        <p:spPr>
          <a:xfrm rot="20977800">
            <a:off x="4643280" y="4795920"/>
            <a:ext cx="976320" cy="877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" descr=""/>
          <p:cNvPicPr/>
          <p:nvPr/>
        </p:nvPicPr>
        <p:blipFill>
          <a:blip r:embed="rId3"/>
          <a:stretch/>
        </p:blipFill>
        <p:spPr>
          <a:xfrm rot="1005000">
            <a:off x="2766600" y="5559120"/>
            <a:ext cx="547920" cy="939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4"/>
          <a:stretch/>
        </p:blipFill>
        <p:spPr>
          <a:xfrm rot="926400">
            <a:off x="7934400" y="5339880"/>
            <a:ext cx="495360" cy="642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"/>
          <p:cNvPicPr/>
          <p:nvPr/>
        </p:nvPicPr>
        <p:blipFill>
          <a:blip r:embed="rId5"/>
          <a:stretch/>
        </p:blipFill>
        <p:spPr>
          <a:xfrm>
            <a:off x="6566040" y="5138640"/>
            <a:ext cx="730080" cy="1067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9" descr=""/>
          <p:cNvPicPr/>
          <p:nvPr/>
        </p:nvPicPr>
        <p:blipFill>
          <a:blip r:embed="rId6"/>
          <a:stretch/>
        </p:blipFill>
        <p:spPr>
          <a:xfrm rot="20977800">
            <a:off x="1214280" y="2295000"/>
            <a:ext cx="976320" cy="878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" descr=""/>
          <p:cNvPicPr/>
          <p:nvPr/>
        </p:nvPicPr>
        <p:blipFill>
          <a:blip r:embed="rId7"/>
          <a:stretch/>
        </p:blipFill>
        <p:spPr>
          <a:xfrm rot="1005000">
            <a:off x="7838640" y="2344320"/>
            <a:ext cx="547920" cy="939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8" descr=""/>
          <p:cNvPicPr/>
          <p:nvPr/>
        </p:nvPicPr>
        <p:blipFill>
          <a:blip r:embed="rId8"/>
          <a:stretch/>
        </p:blipFill>
        <p:spPr>
          <a:xfrm>
            <a:off x="5643720" y="2143080"/>
            <a:ext cx="371160" cy="80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9"/>
          <a:stretch/>
        </p:blipFill>
        <p:spPr>
          <a:xfrm rot="926400">
            <a:off x="3862440" y="3268440"/>
            <a:ext cx="495360" cy="642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7143840" y="4143240"/>
            <a:ext cx="942840" cy="4287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2" descr=""/>
          <p:cNvPicPr/>
          <p:nvPr/>
        </p:nvPicPr>
        <p:blipFill>
          <a:blip r:embed="rId11"/>
          <a:stretch/>
        </p:blipFill>
        <p:spPr>
          <a:xfrm>
            <a:off x="3357720" y="2143080"/>
            <a:ext cx="857160" cy="476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12"/>
          <a:stretch/>
        </p:blipFill>
        <p:spPr>
          <a:xfrm rot="1071600">
            <a:off x="1780920" y="3898440"/>
            <a:ext cx="2252520" cy="785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7" descr=""/>
          <p:cNvPicPr/>
          <p:nvPr/>
        </p:nvPicPr>
        <p:blipFill>
          <a:blip r:embed="rId13"/>
          <a:stretch/>
        </p:blipFill>
        <p:spPr>
          <a:xfrm rot="20726400">
            <a:off x="5286240" y="3500280"/>
            <a:ext cx="1571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0"/>
                            </p:stCondLst>
                            <p:childTnLst>
                              <p:par>
                                <p:cTn id="7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1"/>
          <p:cNvSpPr/>
          <p:nvPr/>
        </p:nvSpPr>
        <p:spPr>
          <a:xfrm>
            <a:off x="1000080" y="857160"/>
            <a:ext cx="1785960" cy="1594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000080" y="2786040"/>
            <a:ext cx="1785960" cy="1571760"/>
          </a:xfrm>
          <a:prstGeom prst="smileyFace">
            <a:avLst>
              <a:gd name="adj" fmla="val 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/>
          <p:cNvSpPr/>
          <p:nvPr/>
        </p:nvSpPr>
        <p:spPr>
          <a:xfrm>
            <a:off x="1000080" y="4572000"/>
            <a:ext cx="1785960" cy="150012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4"/>
          <p:cNvSpPr/>
          <p:nvPr/>
        </p:nvSpPr>
        <p:spPr>
          <a:xfrm>
            <a:off x="3143160" y="142884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уроке мне всё было поня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3000240" y="332784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озникли некоторые вопро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их не зад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143160" y="513000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много не поня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28760" y="571320"/>
            <a:ext cx="81439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4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а)                                                 б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225252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1071720" y="2071800"/>
            <a:ext cx="1523880" cy="7142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9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"/>
          <p:cNvPicPr/>
          <p:nvPr/>
        </p:nvPicPr>
        <p:blipFill>
          <a:blip r:embed="rId3"/>
          <a:stretch/>
        </p:blipFill>
        <p:spPr>
          <a:xfrm>
            <a:off x="1071720" y="2857680"/>
            <a:ext cx="1336680" cy="4284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2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"/>
          <p:cNvPicPr/>
          <p:nvPr/>
        </p:nvPicPr>
        <p:blipFill>
          <a:blip r:embed="rId4"/>
          <a:stretch/>
        </p:blipFill>
        <p:spPr>
          <a:xfrm>
            <a:off x="1071720" y="3357720"/>
            <a:ext cx="1336680" cy="4284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5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6" descr=""/>
          <p:cNvPicPr/>
          <p:nvPr/>
        </p:nvPicPr>
        <p:blipFill>
          <a:blip r:embed="rId5"/>
          <a:stretch/>
        </p:blipFill>
        <p:spPr>
          <a:xfrm>
            <a:off x="1071720" y="3857760"/>
            <a:ext cx="942840" cy="4284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8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9" descr=""/>
          <p:cNvPicPr/>
          <p:nvPr/>
        </p:nvPicPr>
        <p:blipFill>
          <a:blip r:embed="rId6"/>
          <a:stretch/>
        </p:blipFill>
        <p:spPr>
          <a:xfrm>
            <a:off x="1285920" y="4714920"/>
            <a:ext cx="1500120" cy="4316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1"/>
          <p:cNvSpPr/>
          <p:nvPr/>
        </p:nvSpPr>
        <p:spPr>
          <a:xfrm>
            <a:off x="0" y="69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2" descr=""/>
          <p:cNvPicPr/>
          <p:nvPr/>
        </p:nvPicPr>
        <p:blipFill>
          <a:blip r:embed="rId7"/>
          <a:stretch/>
        </p:blipFill>
        <p:spPr>
          <a:xfrm>
            <a:off x="5357880" y="1285920"/>
            <a:ext cx="2374920" cy="7858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"/>
          <p:cNvPicPr/>
          <p:nvPr/>
        </p:nvPicPr>
        <p:blipFill>
          <a:blip r:embed="rId8"/>
          <a:stretch/>
        </p:blipFill>
        <p:spPr>
          <a:xfrm>
            <a:off x="5357880" y="2286000"/>
            <a:ext cx="2222280" cy="7142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6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7" descr=""/>
          <p:cNvPicPr/>
          <p:nvPr/>
        </p:nvPicPr>
        <p:blipFill>
          <a:blip r:embed="rId9"/>
          <a:stretch/>
        </p:blipFill>
        <p:spPr>
          <a:xfrm>
            <a:off x="5357880" y="3143160"/>
            <a:ext cx="1571400" cy="7858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9" descr=""/>
          <p:cNvPicPr/>
          <p:nvPr/>
        </p:nvPicPr>
        <p:blipFill>
          <a:blip r:embed="rId10"/>
          <a:stretch/>
        </p:blipFill>
        <p:spPr>
          <a:xfrm>
            <a:off x="4000680" y="4000680"/>
            <a:ext cx="4476600" cy="7142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1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2" descr=""/>
          <p:cNvPicPr/>
          <p:nvPr/>
        </p:nvPicPr>
        <p:blipFill>
          <a:blip r:embed="rId11"/>
          <a:stretch/>
        </p:blipFill>
        <p:spPr>
          <a:xfrm>
            <a:off x="5429160" y="4857840"/>
            <a:ext cx="857520" cy="4762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4" descr=""/>
          <p:cNvPicPr/>
          <p:nvPr/>
        </p:nvPicPr>
        <p:blipFill>
          <a:blip r:embed="rId12"/>
          <a:stretch/>
        </p:blipFill>
        <p:spPr>
          <a:xfrm>
            <a:off x="6643800" y="5500800"/>
            <a:ext cx="13572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686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ПОВТОРИМ ПРАВИЛА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56840"/>
            <a:ext cx="818676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 умножить дробь на дроб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 умножить натуральное число на дроб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 перемножить смешанные числа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  найти дробь от числа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400"/>
                </a:solidFill>
                <a:latin typeface="Times New Roman"/>
                <a:ea typeface="Times New Roman"/>
              </a:rPr>
              <a:t>Как разделить дробь на дробь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РАЗМИНКА</a:t>
            </a:r>
            <a:br>
              <a:rPr sz="3600"/>
            </a:br>
            <a:r>
              <a:rPr b="0" lang="en-US" sz="24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КАКОЕ ЗАДАНИЕ ДЕЛАЛ ЗНАЙКА, А КАКОЕ НЕЗНАЙ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43080" y="1553760"/>
            <a:ext cx="5716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)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)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)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3560" indent="-13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1"/>
          <a:stretch/>
        </p:blipFill>
        <p:spPr>
          <a:xfrm>
            <a:off x="2714760" y="4500720"/>
            <a:ext cx="2333520" cy="86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2"/>
          <a:stretch/>
        </p:blipFill>
        <p:spPr>
          <a:xfrm>
            <a:off x="2714760" y="5786280"/>
            <a:ext cx="2923920" cy="866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2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4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9" descr="C:\Documents and Settings\Учитель\Мои документы\Мои рисунки\знайка.jpg"/>
          <p:cNvPicPr/>
          <p:nvPr/>
        </p:nvPicPr>
        <p:blipFill>
          <a:blip r:embed="rId3"/>
          <a:stretch/>
        </p:blipFill>
        <p:spPr>
          <a:xfrm>
            <a:off x="0" y="3589200"/>
            <a:ext cx="2071800" cy="326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7" descr="C:\Documents and Settings\Учитель\Мои документы\Мои рисунки\ннннннннн.bmp"/>
          <p:cNvPicPr/>
          <p:nvPr/>
        </p:nvPicPr>
        <p:blipFill>
          <a:blip r:embed="rId4"/>
          <a:stretch/>
        </p:blipFill>
        <p:spPr>
          <a:xfrm>
            <a:off x="6643800" y="114300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8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9" descr=""/>
          <p:cNvPicPr/>
          <p:nvPr/>
        </p:nvPicPr>
        <p:blipFill>
          <a:blip r:embed="rId5"/>
          <a:stretch/>
        </p:blipFill>
        <p:spPr>
          <a:xfrm>
            <a:off x="2786040" y="1857240"/>
            <a:ext cx="2206800" cy="78588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1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2" descr=""/>
          <p:cNvPicPr/>
          <p:nvPr/>
        </p:nvPicPr>
        <p:blipFill>
          <a:blip r:embed="rId6"/>
          <a:stretch/>
        </p:blipFill>
        <p:spPr>
          <a:xfrm>
            <a:off x="2714760" y="3143160"/>
            <a:ext cx="23414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928520" y="571680"/>
            <a:ext cx="571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5" name="Picture 16" descr=""/>
          <p:cNvPicPr/>
          <p:nvPr/>
        </p:nvPicPr>
        <p:blipFill>
          <a:blip r:embed="rId1"/>
          <a:stretch/>
        </p:blipFill>
        <p:spPr>
          <a:xfrm>
            <a:off x="2500200" y="1714680"/>
            <a:ext cx="3781440" cy="866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2" descr=""/>
          <p:cNvPicPr/>
          <p:nvPr/>
        </p:nvPicPr>
        <p:blipFill>
          <a:blip r:embed="rId2"/>
          <a:stretch/>
        </p:blipFill>
        <p:spPr>
          <a:xfrm>
            <a:off x="2428920" y="5214960"/>
            <a:ext cx="3314520" cy="87624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8" descr="ннннн.bmp"/>
          <p:cNvPicPr/>
          <p:nvPr/>
        </p:nvPicPr>
        <p:blipFill>
          <a:blip r:embed="rId3"/>
          <a:stretch/>
        </p:blipFill>
        <p:spPr>
          <a:xfrm>
            <a:off x="6500880" y="4411800"/>
            <a:ext cx="2235240" cy="2446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9" descr="C:\Documents and Settings\Учитель\Мои документы\Мои рисунки\знайка.jpg"/>
          <p:cNvPicPr/>
          <p:nvPr/>
        </p:nvPicPr>
        <p:blipFill>
          <a:blip r:embed="rId4"/>
          <a:stretch/>
        </p:blipFill>
        <p:spPr>
          <a:xfrm>
            <a:off x="214200" y="285840"/>
            <a:ext cx="1285920" cy="20286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5"/>
          <a:stretch/>
        </p:blipFill>
        <p:spPr>
          <a:xfrm>
            <a:off x="2571840" y="428760"/>
            <a:ext cx="3357360" cy="83484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1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2" descr=""/>
          <p:cNvPicPr/>
          <p:nvPr/>
        </p:nvPicPr>
        <p:blipFill>
          <a:blip r:embed="rId6"/>
          <a:stretch/>
        </p:blipFill>
        <p:spPr>
          <a:xfrm>
            <a:off x="2500200" y="3429000"/>
            <a:ext cx="4322880" cy="9288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1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7286760" y="2357280"/>
            <a:ext cx="715680" cy="722520"/>
          </a:xfrm>
          <a:prstGeom prst="rect">
            <a:avLst/>
          </a:prstGeom>
          <a:ln w="0">
            <a:noFill/>
          </a:ln>
        </p:spPr>
      </p:pic>
      <p:sp>
        <p:nvSpPr>
          <p:cNvPr id="476" name="Заголовок 1"/>
          <p:cNvSpPr/>
          <p:nvPr/>
        </p:nvSpPr>
        <p:spPr>
          <a:xfrm>
            <a:off x="1187280" y="260280"/>
            <a:ext cx="7429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РАЗГАДАЙТЕ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358120" cy="5715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0" descr=""/>
          <p:cNvPicPr/>
          <p:nvPr/>
        </p:nvPicPr>
        <p:blipFill>
          <a:blip r:embed="rId3"/>
          <a:stretch/>
        </p:blipFill>
        <p:spPr>
          <a:xfrm>
            <a:off x="2857680" y="2286000"/>
            <a:ext cx="5572080" cy="439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1" descr=""/>
          <p:cNvPicPr/>
          <p:nvPr/>
        </p:nvPicPr>
        <p:blipFill>
          <a:blip r:embed="rId4"/>
          <a:stretch/>
        </p:blipFill>
        <p:spPr>
          <a:xfrm>
            <a:off x="1857240" y="1857240"/>
            <a:ext cx="6115320" cy="447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3" descr=""/>
          <p:cNvPicPr/>
          <p:nvPr/>
        </p:nvPicPr>
        <p:blipFill>
          <a:blip r:embed="rId5"/>
          <a:stretch/>
        </p:blipFill>
        <p:spPr>
          <a:xfrm>
            <a:off x="7286760" y="2786040"/>
            <a:ext cx="733320" cy="67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4" descr=""/>
          <p:cNvPicPr/>
          <p:nvPr/>
        </p:nvPicPr>
        <p:blipFill>
          <a:blip r:embed="rId6"/>
          <a:stretch/>
        </p:blipFill>
        <p:spPr>
          <a:xfrm>
            <a:off x="1928880" y="3071880"/>
            <a:ext cx="3000240" cy="4716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5" descr=""/>
          <p:cNvPicPr/>
          <p:nvPr/>
        </p:nvPicPr>
        <p:blipFill>
          <a:blip r:embed="rId7"/>
          <a:stretch/>
        </p:blipFill>
        <p:spPr>
          <a:xfrm>
            <a:off x="2428920" y="2714760"/>
            <a:ext cx="4929120" cy="428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7" descr=""/>
          <p:cNvPicPr/>
          <p:nvPr/>
        </p:nvPicPr>
        <p:blipFill>
          <a:blip r:embed="rId8"/>
          <a:stretch/>
        </p:blipFill>
        <p:spPr>
          <a:xfrm>
            <a:off x="3857760" y="3929040"/>
            <a:ext cx="1500120" cy="428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8" descr=""/>
          <p:cNvPicPr/>
          <p:nvPr/>
        </p:nvPicPr>
        <p:blipFill>
          <a:blip r:embed="rId9"/>
          <a:stretch/>
        </p:blipFill>
        <p:spPr>
          <a:xfrm>
            <a:off x="1000080" y="2714760"/>
            <a:ext cx="500040" cy="3786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9" descr=""/>
          <p:cNvPicPr/>
          <p:nvPr/>
        </p:nvPicPr>
        <p:blipFill>
          <a:blip r:embed="rId10"/>
          <a:stretch/>
        </p:blipFill>
        <p:spPr>
          <a:xfrm>
            <a:off x="1928880" y="4357800"/>
            <a:ext cx="4929120" cy="428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6" descr=""/>
          <p:cNvPicPr/>
          <p:nvPr/>
        </p:nvPicPr>
        <p:blipFill>
          <a:blip r:embed="rId11"/>
          <a:stretch/>
        </p:blipFill>
        <p:spPr>
          <a:xfrm>
            <a:off x="1000080" y="3500280"/>
            <a:ext cx="585792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678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МАТЕМАТИЧЕСКОЕ ЛОТО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7173720" cy="4883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C:\Documents and Settings\Учитель\Мои документы\Мои рисунки\048nesvizh07h.jpg"/>
          <p:cNvPicPr/>
          <p:nvPr/>
        </p:nvPicPr>
        <p:blipFill>
          <a:blip r:embed="rId2"/>
          <a:stretch/>
        </p:blipFill>
        <p:spPr>
          <a:xfrm>
            <a:off x="1500120" y="3429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C:\Documents and Settings\Учитель\Мои документы\Мои рисунки\tunis_28.jpg"/>
          <p:cNvPicPr/>
          <p:nvPr/>
        </p:nvPicPr>
        <p:blipFill>
          <a:blip r:embed="rId3"/>
          <a:stretch/>
        </p:blipFill>
        <p:spPr>
          <a:xfrm>
            <a:off x="3286080" y="20001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C:\Documents and Settings\Учитель\Мои документы\Мои рисунки\кот.jpg"/>
          <p:cNvPicPr/>
          <p:nvPr/>
        </p:nvPicPr>
        <p:blipFill>
          <a:blip r:embed="rId4"/>
          <a:stretch/>
        </p:blipFill>
        <p:spPr>
          <a:xfrm>
            <a:off x="5572080" y="3429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C:\Documents and Settings\Учитель\Мои документы\Мои рисунки\Na_vode2.jpg"/>
          <p:cNvPicPr/>
          <p:nvPr/>
        </p:nvPicPr>
        <p:blipFill>
          <a:blip r:embed="rId5"/>
          <a:stretch/>
        </p:blipFill>
        <p:spPr>
          <a:xfrm>
            <a:off x="3286080" y="5143680"/>
            <a:ext cx="2239920" cy="138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Documents and Settings\Учитель\Мои документы\Мои рисунки\osminog.bmp"/>
          <p:cNvPicPr/>
          <p:nvPr/>
        </p:nvPicPr>
        <p:blipFill>
          <a:blip r:embed="rId6"/>
          <a:stretch/>
        </p:blipFill>
        <p:spPr>
          <a:xfrm>
            <a:off x="1500120" y="5214960"/>
            <a:ext cx="1814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313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ТРЕТЬЯКОВСКАЯ ГАЛЕРЕ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5" name="Содержимое 3" descr="msk-sgh-the-state-tretyakov-gallery-1.jpg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47:04Z</dcterms:created>
  <dc:creator>Книсс</dc:creator>
  <dc:description/>
  <dc:language>en-US</dc:language>
  <cp:lastModifiedBy>Ogomor XP v7.12</cp:lastModifiedBy>
  <dcterms:modified xsi:type="dcterms:W3CDTF">2013-12-16T17:59:57Z</dcterms:modified>
  <cp:revision>79</cp:revision>
  <dc:subject/>
  <dc:title>    Деление дробей</dc:title>
</cp:coreProperties>
</file>